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6A82D-4C30-4E0B-8A7D-4B8CD91F3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DCA23-49A5-4893-9B1E-3D7139D59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34C83-78B0-454C-A766-D772DC617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DB690-3E54-4473-9531-ED2E8A6B7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D8041-5EF7-4A19-BA99-E528BB9E2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E79BB-5B7B-492B-8035-2691B2455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FC394-E57C-4A0A-8863-479AF8396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9956A-571B-430F-9CB5-423262290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1F7F0-2FE5-4BA7-89E5-AF765A6D5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F81D9-B9C6-4F19-9094-8253ED972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AA447-E0B4-4111-A418-F63EE2F43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C69B1-83FB-477F-BB0D-20AAE037C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17C3-C741-4624-9EE2-F5F463901C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ing Voice Through YA Litera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 Michelle Bradle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WP TC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23,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ice in YA Literatur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time to read excerpts from some great YA literat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focus will be to figure out what type of voice we hear in each excerpt.  Ask yoursel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What kind of voice do you h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What have you learned about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racter from reading this excer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Activit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e will break up into groups and I will assign you a passage to work on together.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goals as a group are to: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on a way to share the excerpt you were assigned with the rest of the cla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al what voice is present in the excerpt.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one specific example from the excerpt that led you to discover the voice.  Circle it or underline i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writers create voic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haract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arance- physical traits, how the character dres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s- what the character does/does not do, what others do to the main charact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ts and Conversation- what the character says about himself/herself and others, what other characters say or think about the charact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nctu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Cho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ence Constr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ing Grammar Ru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it’s your tur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character trait (or two) from the list.  Write a short piece to demonstrate this trait and create a distinct voice.  As long as the type of voice you selected can be heard, you are doing your job as a writ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7" name="" descr=""/>
          <p:cNvPicPr/>
          <p:nvPr/>
        </p:nvPicPr>
        <p:blipFill>
          <a:blip r:embed="rId2"/>
          <a:stretch/>
        </p:blipFill>
        <p:spPr>
          <a:xfrm>
            <a:off x="3733920" y="4572000"/>
            <a:ext cx="914400" cy="71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s of Student Work</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Hand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 what about voice in expository writing?  </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would be a whole new unit of stu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 found a perfect example to show how important a role voice plays in writing non-fiction pie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is a presentation by Barry Lane of a Persuasive Essay.  Enjoy and thank you for your attention and participation today!</a:t>
            </a:r>
            <a:r>
              <a:rPr b="0" lang="en-US" sz="3200" spc="-1" strike="noStrike" u="sng">
                <a:solidFill>
                  <a:srgbClr val="009999"/>
                </a:solidFill>
                <a:uFillTx/>
                <a:latin typeface="Arial"/>
                <a:hlinkClick r:id="rId2" action="ppaction://hlinksldjump"/>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define voice in writing?</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write (2 min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ideas with a partner.  As a pair, decide on a definition of voice. (2 min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erson from each pair will come and write their definition of voice into the PowerPoint! (3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WP Definition of Voic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ice 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the writing experts say about voice?</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e Routm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oice is the single most important element in attracting and holding a reader’s interest (146).” </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man, Regie.  </a:t>
            </a:r>
            <a:r>
              <a:rPr b="0" i="1" lang="en-US" sz="1600" spc="-1" strike="noStrike">
                <a:solidFill>
                  <a:srgbClr val="000000"/>
                </a:solidFill>
                <a:latin typeface="Arial"/>
              </a:rPr>
              <a:t>Writing Essentials:  Raising Expectations and Results Whi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Simplifying Teaching.</a:t>
            </a:r>
            <a:r>
              <a:rPr b="0" lang="en-US" sz="1600" spc="-1" strike="noStrike">
                <a:solidFill>
                  <a:srgbClr val="000000"/>
                </a:solidFill>
                <a:latin typeface="Arial"/>
              </a:rPr>
              <a:t>  Portsmouth, NH:  Heinemann, 2005.</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Experts (cont’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th Culh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oice is the writer’s music coming out through the words, the sense that a real person is speaking to you and cares about the message.  It is the heart and soul of the writing, the magic, the wit, the feeling, the life and breath.  It is flashes of spirit (102).”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lham, Ruth.  </a:t>
            </a:r>
            <a:r>
              <a:rPr b="0" i="1" lang="en-US" sz="1600" spc="-1" strike="noStrike">
                <a:solidFill>
                  <a:srgbClr val="000000"/>
                </a:solidFill>
                <a:latin typeface="Arial"/>
              </a:rPr>
              <a:t>6 + 1 Traits of Writing:  The Complete Guide. </a:t>
            </a:r>
            <a:r>
              <a:rPr b="0" lang="en-US" sz="1600" spc="-1" strike="noStrike">
                <a:solidFill>
                  <a:srgbClr val="000000"/>
                </a:solidFill>
                <a:latin typeface="Arial"/>
              </a:rPr>
              <a:t> Portland, OR:  Northwes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gional Educational Laboratory, 20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Experts (cont’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y Lane’s Acronym for Voi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is for Visualize Audience.  </a:t>
            </a:r>
            <a:r>
              <a:rPr b="0" lang="en-US" sz="1800" spc="-1" strike="noStrike">
                <a:solidFill>
                  <a:srgbClr val="000000"/>
                </a:solidFill>
                <a:latin typeface="Arial"/>
              </a:rPr>
              <a:t>Students who write with voice aren’t writing for a teacher or an assignment but for a real audien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 is for Organize Outside the Box.  </a:t>
            </a:r>
            <a:r>
              <a:rPr b="0" lang="en-US" sz="1800" spc="-1" strike="noStrike">
                <a:solidFill>
                  <a:srgbClr val="000000"/>
                </a:solidFill>
                <a:latin typeface="Arial"/>
              </a:rPr>
              <a:t>Students who write with voice organize their writing around their curios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is for Interpret From the Inside Out.  </a:t>
            </a:r>
            <a:r>
              <a:rPr b="0" lang="en-US" sz="1800" spc="-1" strike="noStrike">
                <a:solidFill>
                  <a:srgbClr val="000000"/>
                </a:solidFill>
                <a:latin typeface="Arial"/>
              </a:rPr>
              <a:t>Students who write with voice don’t hold their subject at a distance.  They get inside their topi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is for Craft Choices.  </a:t>
            </a:r>
            <a:r>
              <a:rPr b="0" lang="en-US" sz="1800" spc="-1" strike="noStrike">
                <a:solidFill>
                  <a:srgbClr val="000000"/>
                </a:solidFill>
                <a:latin typeface="Arial"/>
              </a:rPr>
              <a:t>Students who write with voice know there are many ways to write a paragraph.  They understand craf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is for Elaboration.  </a:t>
            </a:r>
            <a:r>
              <a:rPr b="0" lang="en-US" sz="1800" spc="-1" strike="noStrike">
                <a:solidFill>
                  <a:srgbClr val="000000"/>
                </a:solidFill>
                <a:latin typeface="Arial"/>
              </a:rPr>
              <a:t>Students who write with voice know how to find the details that really bring home their 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g. 118)</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e, Barry.  </a:t>
            </a:r>
            <a:r>
              <a:rPr b="0" i="1" lang="en-US" sz="1400" spc="-1" strike="noStrike">
                <a:solidFill>
                  <a:srgbClr val="000000"/>
                </a:solidFill>
                <a:latin typeface="Arial"/>
              </a:rPr>
              <a:t>But How Do You Teach Writing?  A Simple Guide for All Teachers.</a:t>
            </a:r>
            <a:r>
              <a:rPr b="0" lang="en-US" sz="1400" spc="-1" strike="noStrike">
                <a:solidFill>
                  <a:srgbClr val="000000"/>
                </a:solidFill>
                <a:latin typeface="Arial"/>
              </a:rPr>
              <a:t>  New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York, NY:  Scholastic,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Experts (cont’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ki Spand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ce is expression personalized.  Any time you look at a picture and say to yourself, ‘Oh, this has to be Kawai’s work,’ you know it has voice.  Of course, sometimes we recognize voice without knowing the artist/writer at all.  A picture may make you laugh (or cry).  It may be haunting—or may cause you to connect to a memory of your own you thought was buried.  You may find yourself mentally characterizing it:  It’s whimsical, silly, honest, frightening, or stunning.  If it creates an emotional response, it has voice.  It speaks to us—somehow, in some way (47).”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ndel, Vicki.  </a:t>
            </a:r>
            <a:r>
              <a:rPr b="0" i="1" lang="en-US" sz="1600" spc="-1" strike="noStrike">
                <a:solidFill>
                  <a:srgbClr val="000000"/>
                </a:solidFill>
                <a:latin typeface="Arial"/>
              </a:rPr>
              <a:t>Creating Young Writers:  Using the Six Traits to Enrich the Writin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rocess in Primary Classrooms.</a:t>
            </a:r>
            <a:r>
              <a:rPr b="0" lang="en-US" sz="1600" spc="-1" strike="noStrike">
                <a:solidFill>
                  <a:srgbClr val="000000"/>
                </a:solidFill>
                <a:latin typeface="Arial"/>
              </a:rPr>
              <a:t>   Boston, MA:  Allyn and Bacon, 2008.</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Experts (cont’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lly Gallag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ve you ever been bored reading a stack of your students’ essays only to have one jump out that you really enjoy reading?  When this happens to me, I ask myself:  ‘What is it about this paper that makes it stand out from the rest?  What illuminates it?”  Often the answer is one word:  voice.  Vibrant student papers are filled with rich voice—you can hear the authors in their papers (70).”</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llagher, Kelly.  </a:t>
            </a:r>
            <a:r>
              <a:rPr b="0" i="1" lang="en-US" sz="1600" spc="-1" strike="noStrike">
                <a:solidFill>
                  <a:srgbClr val="000000"/>
                </a:solidFill>
                <a:latin typeface="Arial"/>
              </a:rPr>
              <a:t>Teaching Adolescent Writers</a:t>
            </a:r>
            <a:r>
              <a:rPr b="0" lang="en-US" sz="1600" spc="-1" strike="noStrike">
                <a:solidFill>
                  <a:srgbClr val="000000"/>
                </a:solidFill>
                <a:latin typeface="Arial"/>
              </a:rPr>
              <a:t>.  Portland, ME:  Stenhouse Publisher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the UPWP definition of voice measure up to those of the writing experts?</a:t>
            </a:r>
            <a:endParaRPr b="0" lang="en-US" sz="4000" spc="-1" strike="noStrike">
              <a:solidFill>
                <a:srgbClr val="000000"/>
              </a:solidFill>
              <a:latin typeface="Arial"/>
            </a:endParaRPr>
          </a:p>
        </p:txBody>
      </p:sp>
      <p:sp>
        <p:nvSpPr>
          <p:cNvPr id="5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ice is not as concrete as the other writing traits, so our definitions will v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1T20:31:40Z</dcterms:created>
  <dc:creator>Administrator</dc:creator>
  <dc:description/>
  <dc:language>en-US</dc:language>
  <cp:lastModifiedBy>Administrator</cp:lastModifiedBy>
  <dcterms:modified xsi:type="dcterms:W3CDTF">2009-06-21T22:07:29Z</dcterms:modified>
  <cp:revision>43</cp:revision>
  <dc:subject/>
  <dc:title>Exploring Voice Through YA Literature</dc:title>
</cp:coreProperties>
</file>